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C59-CDAA-4214-A81E-EEEEB34A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D21-444E-49BB-9348-041ACAD3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B2C-8D53-47CE-9CF8-82DE4809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CBC-5A41-4F4A-93D2-D6983461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4E8-88D4-4420-B0E3-021C7C62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D46-6EAD-493B-80B2-DF199F0A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87A-8A8B-4F7C-BA3E-16A90391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069-EB30-41C8-A5D8-B8ACCCB2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F7D-786F-48AF-B879-2B4B0A3A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0BE-2079-44FD-ABCD-B58DFD32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FBE-5F5B-47E2-9F5A-20EB0D2D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CAB-402B-4E05-A94F-326E34E1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2A2B-E42E-46EB-9294-6985A265B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822240" y="492120"/>
            <a:ext cx="103489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54040" y="1347840"/>
            <a:ext cx="92808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Jesus said that He was the _____, the ______, and the _____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66400" y="2128320"/>
            <a:ext cx="794412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way, truth,</a:t>
            </a:r>
            <a:r>
              <a:rPr b="0" lang="en-US" sz="4800" spc="-1" strike="noStrike">
                <a:solidFill>
                  <a:srgbClr val="ffffff"/>
                </a:solidFill>
                <a:latin typeface="Helvetica Neue"/>
              </a:rPr>
              <a:t> lif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54040" y="1347840"/>
            <a:ext cx="92808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Jesus said no one could come to the _______ except through Him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066400" y="2128320"/>
            <a:ext cx="794412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Fa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54040" y="1347840"/>
            <a:ext cx="92808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True or false? There are lots of ways to get to Heaven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066400" y="2128320"/>
            <a:ext cx="794412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fal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54040" y="1347840"/>
            <a:ext cx="92808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Many people in the world don’t believe in _____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66400" y="2128320"/>
            <a:ext cx="794412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Go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54040" y="1347840"/>
            <a:ext cx="92808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Many people believe that you can get to Heaven by being ______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066400" y="2128320"/>
            <a:ext cx="794412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goo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63280" y="1133640"/>
            <a:ext cx="1046484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Jesus knew He was going to _____ soo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54040" y="1347840"/>
            <a:ext cx="92808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Many people believe that all religions have some ______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066400" y="2128320"/>
            <a:ext cx="794412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trut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54040" y="1347840"/>
            <a:ext cx="92808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Jesus wants us to _____ others about Him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066400" y="2128320"/>
            <a:ext cx="794412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tel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454040" y="1347840"/>
            <a:ext cx="92808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God sent Jesus to save us because He ______ us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066400" y="2128320"/>
            <a:ext cx="794412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lov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822240" y="492120"/>
            <a:ext cx="103489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24000" y="2157480"/>
            <a:ext cx="794376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di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Shape, rectangl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12198240" cy="6897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31720" y="847440"/>
            <a:ext cx="9212040" cy="12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Jesus planned to die on a cross to pay for our _____.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Logo&#10;&#10;Description automatically generated"/>
          <p:cNvPicPr/>
          <p:nvPr/>
        </p:nvPicPr>
        <p:blipFill>
          <a:blip r:embed="rId2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24000" y="2157480"/>
            <a:ext cx="794376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si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60520" y="1324080"/>
            <a:ext cx="1095840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Jesus rose again to show that He had defeated ______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24000" y="2157480"/>
            <a:ext cx="794376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death, sin, </a:t>
            </a:r>
            <a:r>
              <a:rPr b="0" lang="en-US" sz="4800" spc="-1" strike="noStrike">
                <a:solidFill>
                  <a:srgbClr val="ffffff"/>
                </a:solidFill>
                <a:latin typeface="Helvetica Neue"/>
              </a:rPr>
              <a:t>hel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77800" y="1118880"/>
            <a:ext cx="10925280" cy="15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Jesus said He was going to ______ to prepare a place for us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24000" y="2157480"/>
            <a:ext cx="794376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Heave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05T02:30:05Z</dcterms:created>
  <dc:creator/>
  <dc:description/>
  <dc:language>en-US</dc:language>
  <cp:lastModifiedBy>word</cp:lastModifiedBy>
  <dcterms:modified xsi:type="dcterms:W3CDTF">2023-09-21T21:01:07Z</dcterms:modified>
  <cp:revision>1341</cp:revision>
  <dc:subject/>
  <dc:title>PowerPoint Presentation</dc:title>
</cp:coreProperties>
</file>